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DD8C-30A4-418D-953D-1287A226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A475-C989-4188-8AEF-8F6484C3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2B02-64C8-48E6-A36D-CBA8FAD8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1D7C-EDCB-4ADE-B267-58D2677A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2FA2-737B-4EF5-AA0D-25A9E111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3849-318D-43A4-9A4E-6C089A7D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F1DF-8401-4402-90F5-E82D0919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C071-4E16-48BE-8B6A-FF65FDC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21EF-ECAF-49E4-BBD0-AD27CBFC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5FB1-AB2C-4C17-AB7F-DDA1002C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F17-5BF0-4011-8B98-EDB4E41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8563-CD83-4A0F-B6DD-CFC92FB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32A3-DA3F-4ED1-A8B4-230B491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0872-0745-4BC3-AD2D-7159995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B3B8-455C-4D0A-923C-63CA2237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2A2D-9A61-4FD4-82AF-25F84D0D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9756-D8A5-4BD9-BE10-AF4361B5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BB87-3CA9-4F29-80AD-E899D344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21EF-7460-4DA6-8D3A-EC3D0E58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0485-D11C-437F-A869-4D5CCC3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27CC-E673-4EFC-B8A7-42E57AB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06AC-5034-4F4C-9661-7E4AAE79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E37E-844C-428E-8B0A-8E7F36B3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914E-9A18-4A57-B25B-3FB0D76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5187-8745-406C-997D-A237B7F97B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9CC4-977A-4DF7-BD1D-0B7D292782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333360"/>
            <a:ext cx="8353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IOGRAF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“La identidad y la alteridad en las formas poéticas arábigoandalusas: jaryas y , muwasha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humada Peña, Haydée. “De amor y de dolor. Mujeres, sentimientos en las jarchas y abencerrajes”. En Cyber Humanitatis,  N°11, (Invierno 1999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Jessica Castro y Raquel Villalobos. “Poesía femenina hispanoárabe del siglo XII: imagen de un equívoco”. En  Cyber Humanitatis Nº 39 (Invierno 2006).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 “Encuentros y desencuentros en los romances fronterizos y morisco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drade Daneri, Claudia. </a:t>
            </a: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El Abencerraje y los Romances, dos lecturas de la España del siglo XVI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. En Cyber Humanitatis, N°40, (Primavera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artínez Iniesta, Bautista. “Crónica poética de la Reconquista de Granada y  antología del Romancero Fronterizo”. En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Google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3:01:44Z</dcterms:created>
  <dc:creator> </dc:creator>
  <dc:description/>
  <dc:language>en-US</dc:language>
  <cp:lastModifiedBy> </cp:lastModifiedBy>
  <dcterms:modified xsi:type="dcterms:W3CDTF">2007-10-15T20:36:08Z</dcterms:modified>
  <cp:revision>4</cp:revision>
  <dc:subject/>
  <dc:title>Diapositiva 1</dc:title>
</cp:coreProperties>
</file>